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15B3-A888-4743-9BD3-7E1AF5D4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84C2-DE09-43C4-A611-8A89A969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AB33-9CBD-4527-B0B3-EA7C7759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84D0-0DA3-4688-9BC7-263D0F0C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C0A4-430B-4DC7-B96D-78F0FA65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DB40-8BC5-44B0-967F-F4F99050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A5C2-5987-4263-A150-FE9ECCE0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13B6-06C2-4350-846A-F8962682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5A25-27D4-4AA4-8ABA-96CDC242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4EA4-F1F6-4B9A-8175-D1526CD5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C962-1EA9-4105-AF60-DE205ADE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EA12-F836-4968-85E9-5B67560E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44B6-8F96-498B-92AF-DCF319B16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064040" y="1200240"/>
            <a:ext cx="1422360" cy="100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3880" y="2286000"/>
            <a:ext cx="629928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LDIERD SUPPORT INSTITU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Flow of Personnel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 HAND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3040" y="171360"/>
            <a:ext cx="8686800" cy="639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4:11:56Z</dcterms:created>
  <dc:creator>mike.a.williams</dc:creator>
  <dc:description/>
  <dc:language>en-US</dc:language>
  <cp:lastModifiedBy>Administrator</cp:lastModifiedBy>
  <dcterms:modified xsi:type="dcterms:W3CDTF">2005-07-07T13:47:17Z</dcterms:modified>
  <cp:revision>2</cp:revision>
  <dc:subject/>
  <dc:title>Slide 1</dc:title>
</cp:coreProperties>
</file>